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90E0-D600-4310-A5ED-53ED6C19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0F12-4862-434A-B307-42225479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779B-468F-4A80-AC7D-799ECA8E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CC2C-8D9F-451F-A9E9-77822496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60BB-271F-4AE6-9A15-0077AE99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7312-D159-49D3-8D41-6044303D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4489-7C8B-4320-997F-82751A8C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893F-BB82-4451-825C-69E48F31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50BD-649C-4EBB-8819-6435DCD1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6C36-B929-4CA6-A53B-77954D8F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E27A-ECC2-4031-8103-6A8741B5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E2E8-ADB0-4389-B734-C783507F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478B-2095-4405-BB94-B711700E7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erature Circles / Literature Study 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k discussion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66680" y="533520"/>
            <a:ext cx="70866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erature Circle/ Study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905120"/>
            <a:ext cx="175248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81080"/>
            <a:ext cx="175284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1981080"/>
            <a:ext cx="18288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34320" y="1905120"/>
            <a:ext cx="1828800" cy="990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447560" y="1676520"/>
            <a:ext cx="2895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505320" y="16765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1676520"/>
            <a:ext cx="10670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1676520"/>
            <a:ext cx="2514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3124080"/>
            <a:ext cx="1904760" cy="762120"/>
          </a:xfrm>
          <a:prstGeom prst="hexagon">
            <a:avLst>
              <a:gd name="adj" fmla="val 62482"/>
              <a:gd name="vf" fmla="val 11547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5638680"/>
            <a:ext cx="2047680" cy="685800"/>
          </a:xfrm>
          <a:prstGeom prst="hexagon">
            <a:avLst>
              <a:gd name="adj" fmla="val 74646"/>
              <a:gd name="vf" fmla="val 11547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4800600"/>
            <a:ext cx="2124000" cy="609480"/>
          </a:xfrm>
          <a:prstGeom prst="hexagon">
            <a:avLst>
              <a:gd name="adj" fmla="val 87123"/>
              <a:gd name="vf" fmla="val 11547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3962520"/>
            <a:ext cx="2047680" cy="609480"/>
          </a:xfrm>
          <a:prstGeom prst="hexagon">
            <a:avLst>
              <a:gd name="adj" fmla="val 83993"/>
              <a:gd name="vf" fmla="val 11547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3200400"/>
            <a:ext cx="2124000" cy="533520"/>
          </a:xfrm>
          <a:prstGeom prst="hexagon">
            <a:avLst>
              <a:gd name="adj" fmla="val 99528"/>
              <a:gd name="vf" fmla="val 11547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3200400"/>
            <a:ext cx="2124360" cy="533520"/>
          </a:xfrm>
          <a:prstGeom prst="hexagon">
            <a:avLst>
              <a:gd name="adj" fmla="val 99545"/>
              <a:gd name="vf" fmla="val 11547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4114800"/>
            <a:ext cx="2124000" cy="533520"/>
          </a:xfrm>
          <a:prstGeom prst="hexagon">
            <a:avLst>
              <a:gd name="adj" fmla="val 99528"/>
              <a:gd name="vf" fmla="val 11547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b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0" y="3200400"/>
            <a:ext cx="2124000" cy="533520"/>
          </a:xfrm>
          <a:prstGeom prst="hexagon">
            <a:avLst>
              <a:gd name="adj" fmla="val 99528"/>
              <a:gd name="vf" fmla="val 11547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5715000"/>
            <a:ext cx="2124000" cy="609480"/>
          </a:xfrm>
          <a:prstGeom prst="hexagon">
            <a:avLst>
              <a:gd name="adj" fmla="val 87123"/>
              <a:gd name="vf" fmla="val 11547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erature Lo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4800600"/>
            <a:ext cx="2124000" cy="685800"/>
          </a:xfrm>
          <a:prstGeom prst="hexagon">
            <a:avLst>
              <a:gd name="adj" fmla="val 77428"/>
              <a:gd name="vf" fmla="val 11547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-Re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ate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4038480"/>
            <a:ext cx="2124360" cy="533520"/>
          </a:xfrm>
          <a:prstGeom prst="hexagon">
            <a:avLst>
              <a:gd name="adj" fmla="val 99545"/>
              <a:gd name="vf" fmla="val 11547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5486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4872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92468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128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iterature Circle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understanding of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ers who create mea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ate prior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hat it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aboration-students work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tion-small groups, student cho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learning communities-enhances student learning through others’ experi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choices- heterogeneous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How to I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- establish group sharing prac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er variety of tex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using the “I,We,You”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Pre-reading strategies with each group’s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Study Group schedule on the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 and demonstrate how to use Literature 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How to Evalu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servation feed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ture Log Rub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3:40:30Z</dcterms:created>
  <dc:creator>Bradford Area School District</dc:creator>
  <dc:description/>
  <dc:language>en-US</dc:language>
  <cp:lastModifiedBy>Bradford Area School District</cp:lastModifiedBy>
  <dcterms:modified xsi:type="dcterms:W3CDTF">2009-06-16T14:46:51Z</dcterms:modified>
  <cp:revision>2</cp:revision>
  <dc:subject/>
  <dc:title>READER’S THEATER(THEATRE)</dc:title>
</cp:coreProperties>
</file>